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E07-4728-4F2C-A673-3030CF76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649-203C-4E58-8442-BD8455E5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2D8-9003-4DA6-B6D5-19D4FA8B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F8E-7F68-4A94-B99D-2ACA72C2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E27-066B-4B80-9282-26D3EF19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D14-1C66-450A-B00A-862A0B35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0C9-5796-4C52-9A1E-AC7044C6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D07-4775-4C0C-97CE-4074C3AA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342-DA76-4BAC-8D99-C906F25D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F65-8995-41C3-A931-F142A0F9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DDF-01D1-40A5-A08F-12EF762A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A7B-8FE2-48E5-AFD9-6B13E16C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D567-2770-47C9-9FA9-D8DB33F4ED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8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Державне нерухоме майно, що знаходиться на баланс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75248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600200"/>
            <a:ext cx="434340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143000"/>
            <a:ext cx="44960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1 Комплекс по виробництву цегли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401 Майнові комплекси промислового виробництв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м. Київ, вул. Промислова, 4-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438280"/>
            <a:ext cx="1600200" cy="3049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60" y="1905120"/>
            <a:ext cx="133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20.5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Адміністративн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обутові будівлі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ромислових підприємст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438280"/>
            <a:ext cx="167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7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поверх Адмін будинку (ін.№ 1586 1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8040" y="320040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42900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Цех №1 (ін.№ 8081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5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8 Будівлі підприємств будівельної індустрі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3200400"/>
            <a:ext cx="1600200" cy="99072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429000"/>
            <a:ext cx="146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9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Цех №2 (ін.№ 1104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5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8 Будівлі підприємств будівельної індустрії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76520"/>
            <a:ext cx="3886200" cy="259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441972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421.1 Огородження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3429000" y="2057400"/>
            <a:ext cx="1371600" cy="7617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050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62320" y="2286000"/>
            <a:ext cx="4046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438280" y="1828800"/>
            <a:ext cx="40500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057400" y="2286000"/>
            <a:ext cx="40464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743200" y="2362320"/>
            <a:ext cx="404640" cy="457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19520" y="1676520"/>
            <a:ext cx="1371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20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Благоустрі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 №110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3199.9 Благоустрі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1143000"/>
            <a:ext cx="3886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2 База відпочинку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103 Об'єкти відпочинку та туризму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п. Гурзуф, ул. Гайдара,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160020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6765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1905120"/>
            <a:ext cx="131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2. УХЗЮАЗ023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рпус 1 (ін.№ 795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12.3 Центри та будин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відпочин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3276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3276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16765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105520"/>
            <a:ext cx="365760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562720"/>
            <a:ext cx="1600200" cy="99036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867280"/>
            <a:ext cx="1600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3. УХЗЮАЗ029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нюшня на 82 голів (ін. №903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71.1 Будівля для тваринницт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5486400"/>
            <a:ext cx="228600" cy="1066680"/>
          </a:xfrm>
          <a:prstGeom prst="flowChartCollat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648320"/>
            <a:ext cx="42670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16502790.3 Конюшня </a:t>
            </a:r>
            <a:r>
              <a:rPr b="0" lang="uk-UA" sz="800" spc="-1" strike="noStrike" u="sng">
                <a:solidFill>
                  <a:srgbClr val="000000"/>
                </a:solidFill>
                <a:uFillTx/>
                <a:latin typeface="Times New Roman"/>
              </a:rPr>
              <a:t>(402 Об'єкти сільськогосподарського призначення, лісівництва та рибного господарств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 u="sng">
                <a:solidFill>
                  <a:srgbClr val="000000"/>
                </a:solidFill>
                <a:uFillTx/>
                <a:latin typeface="Times New Roman"/>
              </a:rPr>
              <a:t>с. Новий Шлях, Козелецький р-н, Чернігівська об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380880"/>
            <a:ext cx="838188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</a:rPr>
              <a:t>Ідентифікаційний код ЄДРПОУ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балансаутримувача: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1650279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вне найменування балансоутримувача: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ДЕРЖАВНЕ ПІДПРИЄМСТВО "СВІТЯЗЬ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ісцезнаходження балансоутримувач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м.Київ, вул.Промислова, 4-а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Загальний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змір земельної ділянки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166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423 м  к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281952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1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0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1083211,5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2 Землі промисловост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7432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8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1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541 605,75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2 Землі оздоровчого призначенн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105520"/>
            <a:ext cx="35812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31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Земельна ділянка (інв.№0122) – 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(141 605,75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        3102.1 Землі промисловост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32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Земельна ділянка (інв.№0124) – </a:t>
            </a: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400 000,0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м  кв.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3100.1 Землі сільськогосподарського призначенн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1143000"/>
            <a:ext cx="8686800" cy="5562720"/>
          </a:xfrm>
          <a:prstGeom prst="rect">
            <a:avLst/>
          </a:prstGeom>
          <a:noFill/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5791320"/>
            <a:ext cx="1600200" cy="838080"/>
          </a:xfrm>
          <a:custGeom>
            <a:avLst/>
            <a:gdLst/>
            <a:ahLst/>
            <a:rect l="l" t="t" r="r" b="b"/>
            <a:pathLst>
              <a:path w="816" h="1211">
                <a:moveTo>
                  <a:pt x="0" y="395"/>
                </a:moveTo>
                <a:lnTo>
                  <a:pt x="0" y="1211"/>
                </a:lnTo>
                <a:lnTo>
                  <a:pt x="816" y="1211"/>
                </a:lnTo>
                <a:lnTo>
                  <a:pt x="816" y="443"/>
                </a:lnTo>
                <a:lnTo>
                  <a:pt x="438" y="0"/>
                </a:lnTo>
                <a:lnTo>
                  <a:pt x="0" y="395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6324480"/>
            <a:ext cx="1600200" cy="3049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9240" y="6324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Державне ма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4000" y="601992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Недержавне ма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571500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343400"/>
            <a:ext cx="15238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14640" y="4343400"/>
            <a:ext cx="152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60958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Загальний р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змір земельної ділянки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166</a:t>
            </a:r>
            <a:r>
              <a:rPr b="1" i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423 м  кв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505320"/>
            <a:ext cx="1447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</a:t>
            </a: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УХЗЮАЗ025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Ідальня  (ін.№ 795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30.4 Ідальні, кафе, закусочні та т.і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41972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16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Ворота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№752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3505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2. УХЗЮАЗ026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Сарай (ін. № 81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74.6 Господарські будівл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4419720"/>
            <a:ext cx="3505320" cy="228600"/>
          </a:xfrm>
          <a:prstGeom prst="wedgeRoundRectCallout">
            <a:avLst>
              <a:gd name="adj1" fmla="val -54754"/>
              <a:gd name="adj2" fmla="val -14444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4495680"/>
            <a:ext cx="1600200" cy="838440"/>
          </a:xfrm>
          <a:prstGeom prst="wedgeRoundRectCallout">
            <a:avLst>
              <a:gd name="adj1" fmla="val -61606"/>
              <a:gd name="adj2" fmla="val -22689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1. УХЗЮАЗ022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Дорога (ін.№ 5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112.2 Позаміські, об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їзні та окружні дорог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133720" y="5714280"/>
            <a:ext cx="1371600" cy="762120"/>
          </a:xfrm>
          <a:prstGeom prst="wedgeRoundRectCallout">
            <a:avLst>
              <a:gd name="adj1" fmla="val -63310"/>
              <a:gd name="adj2" fmla="val 45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3. УХЗЮАЗ0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Артскважи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(Ін. №01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2222.4 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яні свердловини, колодязі, бювети 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1905120"/>
            <a:ext cx="1316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6502790. УХЗЮАЗ024</a:t>
            </a: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 Корпус 2 (ін.№ 812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1212.3 Центри та будин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відпочин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12:40:10Z</dcterms:created>
  <dc:creator>Well</dc:creator>
  <dc:description/>
  <dc:language>en-US</dc:language>
  <cp:lastModifiedBy>star777</cp:lastModifiedBy>
  <dcterms:modified xsi:type="dcterms:W3CDTF">2006-05-12T11:34:54Z</dcterms:modified>
  <cp:revision>23</cp:revision>
  <dc:subject/>
  <dc:title>Презентация PowerPoint</dc:title>
</cp:coreProperties>
</file>